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0D07-CC96-45FA-824C-4ACEA299B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A79D-45E3-4207-82B9-8BCFE787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A7E8-6D0A-4579-82D3-6BC2748A7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B826-FED6-4DA2-AF7F-EC48322E8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AD9F-E47B-4482-BFF4-8B2A207C9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DBF9-898E-406C-865E-CB857A6A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B319-F810-4310-B81A-CBECC17C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2754-6C88-4F95-A220-6308EC75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5463-0DA9-4628-836B-63AF0CD9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18AE-064F-47CF-A972-DF3CA842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E3B6-9BB9-41DC-8ED5-833E2539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261E-4F22-4091-A9C4-7A92520C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F838-D517-4026-96F6-78472B7E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1902-2805-4C0D-ADAD-C583311F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0A44-C1E4-42B6-9783-62DC0358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A7E2-B2DF-4704-85D6-24657EF90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3586-FE9F-4B9B-8807-989E0F626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F688D-2337-48C2-B3BF-04F70669E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6A627-4420-49F7-8E16-35791184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9CCB0-1374-4908-A4BB-132C916C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6D60D-5A93-4B86-B500-A7CC736D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FABA2-7BAE-4FBD-8C4C-F3E7BBDA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123C-AEC5-428D-AE3F-C2E7CC2A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877B4-E576-4EBC-8B06-C43B04CC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33789-C5E9-4CB9-8662-23DA2B18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64C37-C59C-4056-BBEB-0AB46F8D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B2E81-47CD-4C95-AE8B-F1A28359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6FB89-266F-47F4-B19B-F7E9C3E5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54426-9DFA-4177-B227-3F162064B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D1473-EEF4-40AC-A935-1F0ECF73F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89DB3-BF79-48F4-89F9-1EEF33ED0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25661-23FC-484C-9177-4EF49BF8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18912-A7E4-40A6-8CF2-DAC70133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6ACE-354F-4107-B462-90018BE9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B48ED-5314-4BC7-A227-1996BEB2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7F458-1613-4A54-8C42-4CBDDF88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7E18D-04B5-45BA-BD58-C51FB088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99ECB-8E7F-467D-98E9-82C01BA8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562B4-58EA-4F72-ACF4-2863A918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2FC5B-A58D-4F39-A5B2-4BAEA49F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B61D2-3836-4EA3-8CA8-3284C20C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5F738-7EF2-459B-B4E2-04074EE32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81990-CB2B-4E76-91A5-804EB8118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2395-2ACF-4310-8E6E-4625A512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2645-EE18-48FC-8B84-3824FED2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4973-AEEE-44BA-9AC7-1B141621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5E68-0001-43D4-ADCF-9CD170FA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A999-4837-4DDC-BA7B-31BB041C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3262-52A5-4317-9666-D5771B0F683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4F82-ED72-4191-BA70-FC23F3B07AA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E825-130D-4A6C-850F-E3789F1D80E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2AB9-D4D7-4FEA-B431-6EC8F6FAD46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755640" y="66600"/>
            <a:ext cx="8186760" cy="1847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7920" y="1752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vone Nunez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3" descr="HJRACAKRICPLCAR8T2PLCA75SOP4CARW9X6RCAWW8J9QCAFXUMI9CAFNZ2F3CA8DD2D5CAQZ9ZEDCAP3HER2CAQTI0ERCAUHNC7RCAMG826OCAGF1X4UCANF4B9UCAGILR37CA27MAWFCA8OCJ6SCACQV9YY.jpg"/>
          <p:cNvPicPr/>
          <p:nvPr/>
        </p:nvPicPr>
        <p:blipFill>
          <a:blip r:embed="rId2"/>
          <a:stretch/>
        </p:blipFill>
        <p:spPr>
          <a:xfrm>
            <a:off x="3124080" y="2819520"/>
            <a:ext cx="3424320" cy="3233520"/>
          </a:xfrm>
          <a:prstGeom prst="rect">
            <a:avLst/>
          </a:prstGeom>
          <a:ln w="0">
            <a:noFill/>
          </a:ln>
        </p:spPr>
      </p:pic>
      <p:pic>
        <p:nvPicPr>
          <p:cNvPr id="198" name="~PP3887.WAV" descr=""/>
          <p:cNvPicPr/>
          <p:nvPr/>
        </p:nvPicPr>
        <p:blipFill>
          <a:blip r:embed="rId3"/>
          <a:stretch/>
        </p:blipFill>
        <p:spPr>
          <a:xfrm>
            <a:off x="-304920" y="3657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有两只猪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Content Placeholder 3" descr="7I0KCA3OOTHZCA3BCKZYCAN2XNETCA70PI69CA5VVZU7CAY981F1CAU1SZO9CA6CTIJWCAAYJD6BCA0QY0Z8CA4Q645RCA9QC77PCAZ4WWXBCAA2E21ZCA15NNSZCA4AHZTKCAPAZVFECAR8ZQ88CAJB96JE.jpg"/>
          <p:cNvPicPr/>
          <p:nvPr/>
        </p:nvPicPr>
        <p:blipFill>
          <a:blip r:embed="rId1"/>
          <a:stretch/>
        </p:blipFill>
        <p:spPr>
          <a:xfrm>
            <a:off x="4648320" y="2133720"/>
            <a:ext cx="2038320" cy="2038320"/>
          </a:xfrm>
          <a:prstGeom prst="rect">
            <a:avLst/>
          </a:prstGeom>
          <a:ln w="0">
            <a:noFill/>
          </a:ln>
        </p:spPr>
      </p:pic>
      <p:pic>
        <p:nvPicPr>
          <p:cNvPr id="238" name="Content Placeholder 3" descr="7I0KCA3OOTHZCA3BCKZYCAN2XNETCA70PI69CA5VVZU7CAY981F1CAU1SZO9CA6CTIJWCAAYJD6BCA0QY0Z8CA4Q645RCA9QC77PCAZ4WWXBCAA2E21ZCA15NNSZCA4AHZTKCAPAZVFECAR8ZQ88CAJB96JE.jpg"/>
          <p:cNvPicPr/>
          <p:nvPr/>
        </p:nvPicPr>
        <p:blipFill>
          <a:blip r:embed="rId2"/>
          <a:stretch/>
        </p:blipFill>
        <p:spPr>
          <a:xfrm>
            <a:off x="2209680" y="2057400"/>
            <a:ext cx="2038320" cy="2038320"/>
          </a:xfrm>
          <a:prstGeom prst="rect">
            <a:avLst/>
          </a:prstGeom>
          <a:ln w="0">
            <a:noFill/>
          </a:ln>
        </p:spPr>
      </p:pic>
      <p:sp>
        <p:nvSpPr>
          <p:cNvPr id="239" name="TextBox 4"/>
          <p:cNvSpPr/>
          <p:nvPr/>
        </p:nvSpPr>
        <p:spPr>
          <a:xfrm>
            <a:off x="2819520" y="541008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ere two p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Recorded Sound" descr=""/>
          <p:cNvPicPr/>
          <p:nvPr/>
        </p:nvPicPr>
        <p:blipFill>
          <a:blip r:embed="rId3"/>
          <a:stretch/>
        </p:blipFill>
        <p:spPr>
          <a:xfrm>
            <a:off x="-304920" y="3886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他们叫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ruit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和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oop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TextBox 3"/>
          <p:cNvSpPr/>
          <p:nvPr/>
        </p:nvSpPr>
        <p:spPr>
          <a:xfrm>
            <a:off x="1828800" y="49528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names were Fruit and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Content Placeholder 7" descr="7I0KCA3OOTHZCA3BCKZYCAN2XNETCA70PI69CA5VVZU7CAY981F1CAU1SZO9CA6CTIJWCAAYJD6BCA0QY0Z8CA4Q645RCA9QC77PCAZ4WWXBCAA2E21ZCA15NNSZCA4AHZTKCAPAZVFECAR8ZQ88CAJB96JE.jpg"/>
          <p:cNvPicPr/>
          <p:nvPr/>
        </p:nvPicPr>
        <p:blipFill>
          <a:blip r:embed="rId1"/>
          <a:stretch/>
        </p:blipFill>
        <p:spPr>
          <a:xfrm>
            <a:off x="3048120" y="23623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44" name="Recorded Sound" descr=""/>
          <p:cNvPicPr/>
          <p:nvPr/>
        </p:nvPicPr>
        <p:blipFill>
          <a:blip r:embed="rId2"/>
          <a:stretch/>
        </p:blipFill>
        <p:spPr>
          <a:xfrm>
            <a:off x="-304920" y="4114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3000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还有五只鸡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6" name="Content Placeholder 3" descr="X3Z9CAN3ZM7NCA96GW4ZCAM9YYD5CA6Z5W8MCAYZN40DCALDCUW1CAU9S6KMCAPXX8MRCAVRQWZ2CADZC1HVCAASYHMRCAOTIP7MCAYTYV51CA75P5MWCAUTVRGBCAY1402KCAQU0WAACA9MU1VFCAK4QY0M.jpg"/>
          <p:cNvPicPr/>
          <p:nvPr/>
        </p:nvPicPr>
        <p:blipFill>
          <a:blip r:embed="rId1"/>
          <a:stretch/>
        </p:blipFill>
        <p:spPr>
          <a:xfrm>
            <a:off x="1371600" y="2209680"/>
            <a:ext cx="961920" cy="1285920"/>
          </a:xfrm>
          <a:prstGeom prst="rect">
            <a:avLst/>
          </a:prstGeom>
          <a:ln w="0">
            <a:noFill/>
          </a:ln>
        </p:spPr>
      </p:pic>
      <p:pic>
        <p:nvPicPr>
          <p:cNvPr id="247" name="Content Placeholder 3" descr="X3Z9CAN3ZM7NCA96GW4ZCAM9YYD5CA6Z5W8MCAYZN40DCALDCUW1CAU9S6KMCAPXX8MRCAVRQWZ2CADZC1HVCAASYHMRCAOTIP7MCAYTYV51CA75P5MWCAUTVRGBCAY1402KCAQU0WAACA9MU1VFCAK4QY0M.jpg"/>
          <p:cNvPicPr/>
          <p:nvPr/>
        </p:nvPicPr>
        <p:blipFill>
          <a:blip r:embed="rId2"/>
          <a:stretch/>
        </p:blipFill>
        <p:spPr>
          <a:xfrm>
            <a:off x="2666880" y="2362320"/>
            <a:ext cx="962280" cy="1285920"/>
          </a:xfrm>
          <a:prstGeom prst="rect">
            <a:avLst/>
          </a:prstGeom>
          <a:ln w="0">
            <a:noFill/>
          </a:ln>
        </p:spPr>
      </p:pic>
      <p:pic>
        <p:nvPicPr>
          <p:cNvPr id="248" name="Content Placeholder 3" descr="X3Z9CAN3ZM7NCA96GW4ZCAM9YYD5CA6Z5W8MCAYZN40DCALDCUW1CAU9S6KMCAPXX8MRCAVRQWZ2CADZC1HVCAASYHMRCAOTIP7MCAYTYV51CA75P5MWCAUTVRGBCAY1402KCAQU0WAACA9MU1VFCAK4QY0M.jpg"/>
          <p:cNvPicPr/>
          <p:nvPr/>
        </p:nvPicPr>
        <p:blipFill>
          <a:blip r:embed="rId3"/>
          <a:stretch/>
        </p:blipFill>
        <p:spPr>
          <a:xfrm>
            <a:off x="3962520" y="2514600"/>
            <a:ext cx="961920" cy="1285920"/>
          </a:xfrm>
          <a:prstGeom prst="rect">
            <a:avLst/>
          </a:prstGeom>
          <a:ln w="0">
            <a:noFill/>
          </a:ln>
        </p:spPr>
      </p:pic>
      <p:pic>
        <p:nvPicPr>
          <p:cNvPr id="249" name="Content Placeholder 3" descr="X3Z9CAN3ZM7NCA96GW4ZCAM9YYD5CA6Z5W8MCAYZN40DCALDCUW1CAU9S6KMCAPXX8MRCAVRQWZ2CADZC1HVCAASYHMRCAOTIP7MCAYTYV51CA75P5MWCAUTVRGBCAY1402KCAQU0WAACA9MU1VFCAK4QY0M.jpg"/>
          <p:cNvPicPr/>
          <p:nvPr/>
        </p:nvPicPr>
        <p:blipFill>
          <a:blip r:embed="rId4"/>
          <a:stretch/>
        </p:blipFill>
        <p:spPr>
          <a:xfrm>
            <a:off x="5638680" y="2590920"/>
            <a:ext cx="962280" cy="1285920"/>
          </a:xfrm>
          <a:prstGeom prst="rect">
            <a:avLst/>
          </a:prstGeom>
          <a:ln w="0">
            <a:noFill/>
          </a:ln>
        </p:spPr>
      </p:pic>
      <p:pic>
        <p:nvPicPr>
          <p:cNvPr id="250" name="Content Placeholder 3" descr="X3Z9CAN3ZM7NCA96GW4ZCAM9YYD5CA6Z5W8MCAYZN40DCALDCUW1CAU9S6KMCAPXX8MRCAVRQWZ2CADZC1HVCAASYHMRCAOTIP7MCAYTYV51CA75P5MWCAUTVRGBCAY1402KCAQU0WAACA9MU1VFCAK4QY0M.jpg"/>
          <p:cNvPicPr/>
          <p:nvPr/>
        </p:nvPicPr>
        <p:blipFill>
          <a:blip r:embed="rId5"/>
          <a:stretch/>
        </p:blipFill>
        <p:spPr>
          <a:xfrm>
            <a:off x="7010280" y="2590920"/>
            <a:ext cx="962280" cy="1285920"/>
          </a:xfrm>
          <a:prstGeom prst="rect">
            <a:avLst/>
          </a:prstGeom>
          <a:ln w="0">
            <a:noFill/>
          </a:ln>
        </p:spPr>
      </p:pic>
      <p:sp>
        <p:nvSpPr>
          <p:cNvPr id="251" name="TextBox 7"/>
          <p:cNvSpPr/>
          <p:nvPr/>
        </p:nvSpPr>
        <p:spPr>
          <a:xfrm>
            <a:off x="1752480" y="48769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ere five chick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Recorded Sound" descr=""/>
          <p:cNvPicPr/>
          <p:nvPr/>
        </p:nvPicPr>
        <p:blipFill>
          <a:blip r:embed="rId6"/>
          <a:stretch/>
        </p:blipFill>
        <p:spPr>
          <a:xfrm>
            <a:off x="-304920" y="3886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000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他们叫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Krispies, Puffs, Cocoa, Flakes </a:t>
            </a:r>
            <a:r>
              <a:rPr b="0" lang="ja-JP" sz="36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和 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Frosty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4" name="Content Placeholder 3" descr="X3Z9CAN3ZM7NCA96GW4ZCAM9YYD5CA6Z5W8MCAYZN40DCALDCUW1CAU9S6KMCAPXX8MRCAVRQWZ2CADZC1HVCAASYHMRCAOTIP7MCAYTYV51CA75P5MWCAUTVRGBCAY1402KCAQU0WAACA9MU1VFCAK4QY0M.jpg"/>
          <p:cNvPicPr/>
          <p:nvPr/>
        </p:nvPicPr>
        <p:blipFill>
          <a:blip r:embed="rId1"/>
          <a:stretch/>
        </p:blipFill>
        <p:spPr>
          <a:xfrm>
            <a:off x="3733920" y="1981080"/>
            <a:ext cx="1342800" cy="1795680"/>
          </a:xfrm>
          <a:prstGeom prst="rect">
            <a:avLst/>
          </a:prstGeom>
          <a:ln w="0">
            <a:noFill/>
          </a:ln>
        </p:spPr>
      </p:pic>
      <p:sp>
        <p:nvSpPr>
          <p:cNvPr id="255" name="TextBox 3"/>
          <p:cNvSpPr/>
          <p:nvPr/>
        </p:nvSpPr>
        <p:spPr>
          <a:xfrm>
            <a:off x="1905120" y="464832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names were Krispies, Puffs, Cocoa, Flakes and Fros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Recorded Sound" descr=""/>
          <p:cNvPicPr/>
          <p:nvPr/>
        </p:nvPicPr>
        <p:blipFill>
          <a:blip r:embed="rId2"/>
          <a:stretch/>
        </p:blipFill>
        <p:spPr>
          <a:xfrm>
            <a:off x="-304920" y="3657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5000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和一只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hinchill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8" name="Content Placeholder 3" descr="3HTXCASCVKXGCAENIY2VCAT2SMS1CAECC72KCA3DM5ZXCA248EWPCAQPJN7MCA1RIBFYCAJYX117CAMV93SICAAKHEWGCARZOIHLCAQHPXSLCA8AI9OLCALFKVIWCAZ8OVJ7CAIEP8MCCA6TOCM7CAARJDWG.jpg"/>
          <p:cNvPicPr/>
          <p:nvPr/>
        </p:nvPicPr>
        <p:blipFill>
          <a:blip r:embed="rId1"/>
          <a:stretch/>
        </p:blipFill>
        <p:spPr>
          <a:xfrm>
            <a:off x="3505320" y="2743200"/>
            <a:ext cx="1652400" cy="16527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3"/>
          <p:cNvSpPr/>
          <p:nvPr/>
        </p:nvSpPr>
        <p:spPr>
          <a:xfrm>
            <a:off x="2438280" y="533412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 Chinch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Recorded Sound" descr=""/>
          <p:cNvPicPr/>
          <p:nvPr/>
        </p:nvPicPr>
        <p:blipFill>
          <a:blip r:embed="rId2"/>
          <a:stretch/>
        </p:blipFill>
        <p:spPr>
          <a:xfrm>
            <a:off x="-609480" y="3962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他叫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pecial 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TextBox 4"/>
          <p:cNvSpPr/>
          <p:nvPr/>
        </p:nvSpPr>
        <p:spPr>
          <a:xfrm>
            <a:off x="2438280" y="563868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 name was Special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Content Placeholder 5" descr="3HTXCASCVKXGCAENIY2VCAT2SMS1CAECC72KCA3DM5ZXCA248EWPCAQPJN7MCA1RIBFYCAJYX117CAMV93SICAAKHEWGCARZOIHLCAQHPXSLCA8AI9OLCALFKVIWCAZ8OVJ7CAIEP8MCCA6TOCM7CAARJDWG.jpg"/>
          <p:cNvPicPr/>
          <p:nvPr/>
        </p:nvPicPr>
        <p:blipFill>
          <a:blip r:embed="rId1"/>
          <a:stretch/>
        </p:blipFill>
        <p:spPr>
          <a:xfrm>
            <a:off x="2819520" y="237816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264" name="Recorded Sound" descr=""/>
          <p:cNvPicPr/>
          <p:nvPr/>
        </p:nvPicPr>
        <p:blipFill>
          <a:blip r:embed="rId2"/>
          <a:stretch/>
        </p:blipFill>
        <p:spPr>
          <a:xfrm>
            <a:off x="-609480" y="3886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  <a:ea typeface="隶书"/>
              </a:rPr>
              <a:t>他们在农庄都快乐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6" name="Content Placeholder 7" descr="7RVYCA069NAJCABEMY5FCAUFL000CA2PQUIOCAH4HXY6CA6ZAJEJCAC2NMV0CA1U2UQ1CA4AH16VCAWMUOBRCA9P6PMTCAILASIGCAPGPDGJCAZZ7P68CACBW2DOCADP38T3CAXJ3FOMCA2QG5BLCA8NZWS1.jpg"/>
          <p:cNvPicPr/>
          <p:nvPr/>
        </p:nvPicPr>
        <p:blipFill>
          <a:blip r:embed="rId1"/>
          <a:stretch/>
        </p:blipFill>
        <p:spPr>
          <a:xfrm>
            <a:off x="1828800" y="1806480"/>
            <a:ext cx="4876920" cy="3489480"/>
          </a:xfrm>
          <a:prstGeom prst="rect">
            <a:avLst/>
          </a:prstGeom>
          <a:ln w="0">
            <a:noFill/>
          </a:ln>
        </p:spPr>
      </p:pic>
      <p:sp>
        <p:nvSpPr>
          <p:cNvPr id="267" name="TextBox 3"/>
          <p:cNvSpPr/>
          <p:nvPr/>
        </p:nvSpPr>
        <p:spPr>
          <a:xfrm>
            <a:off x="2209680" y="541008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were all happy in the f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Recorded Sound" descr=""/>
          <p:cNvPicPr/>
          <p:nvPr/>
        </p:nvPicPr>
        <p:blipFill>
          <a:blip r:embed="rId2"/>
          <a:stretch/>
        </p:blipFill>
        <p:spPr>
          <a:xfrm>
            <a:off x="-533520" y="441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  <a:ea typeface="隶书"/>
              </a:rPr>
              <a:t>直到有一天，马醒来时大叫了一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0" name="Content Placeholder 3" descr="52.jpg"/>
          <p:cNvPicPr/>
          <p:nvPr/>
        </p:nvPicPr>
        <p:blipFill>
          <a:blip r:embed="rId1"/>
          <a:stretch/>
        </p:blipFill>
        <p:spPr>
          <a:xfrm>
            <a:off x="3124080" y="2666880"/>
            <a:ext cx="2686320" cy="1522440"/>
          </a:xfrm>
          <a:prstGeom prst="rect">
            <a:avLst/>
          </a:prstGeom>
          <a:ln w="0">
            <a:noFill/>
          </a:ln>
        </p:spPr>
      </p:pic>
      <p:sp>
        <p:nvSpPr>
          <p:cNvPr id="271" name="TextBox 3"/>
          <p:cNvSpPr/>
          <p:nvPr/>
        </p:nvSpPr>
        <p:spPr>
          <a:xfrm>
            <a:off x="1905120" y="525780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il one day, the horse wakes up scre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Recorded Sound" descr=""/>
          <p:cNvPicPr/>
          <p:nvPr/>
        </p:nvPicPr>
        <p:blipFill>
          <a:blip r:embed="rId2"/>
          <a:stretch/>
        </p:blipFill>
        <p:spPr>
          <a:xfrm>
            <a:off x="-762120" y="5105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3000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  <a:ea typeface="隶书"/>
              </a:rPr>
              <a:t>他说绿色的怪物回来了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4" name="Content Placeholder 3" descr="VR7OCAXGEOOACA7PEPFPCAKHCVE3CAYKK1L3CAETKD35CAKE7EU2CAISR7FMCAJY8X8BCA4EDQXJCARCY22RCAN3GWT3CA1K0V2DCAOBR58DCADGQABYCA6NRPTBCAOLXL3YCAP2GH8LCAKNHJW0CAQBB60Q.jpg"/>
          <p:cNvPicPr/>
          <p:nvPr/>
        </p:nvPicPr>
        <p:blipFill>
          <a:blip r:embed="rId1"/>
          <a:stretch/>
        </p:blipFill>
        <p:spPr>
          <a:xfrm>
            <a:off x="2895480" y="2590920"/>
            <a:ext cx="2854440" cy="2043000"/>
          </a:xfrm>
          <a:prstGeom prst="rect">
            <a:avLst/>
          </a:prstGeom>
          <a:ln w="0">
            <a:noFill/>
          </a:ln>
        </p:spPr>
      </p:pic>
      <p:sp>
        <p:nvSpPr>
          <p:cNvPr id="275" name="TextBox 3"/>
          <p:cNvSpPr/>
          <p:nvPr/>
        </p:nvSpPr>
        <p:spPr>
          <a:xfrm>
            <a:off x="1905120" y="52578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said that the Green Monster was bac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Recorded Sound" descr=""/>
          <p:cNvPicPr/>
          <p:nvPr/>
        </p:nvPicPr>
        <p:blipFill>
          <a:blip r:embed="rId2"/>
          <a:stretch/>
        </p:blipFill>
        <p:spPr>
          <a:xfrm>
            <a:off x="-685800" y="4191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3000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他叫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il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8" name="Content Placeholder 3" descr="H8X4CAB05SWZCA9PMDSGCADHOYJKCA02BIBHCA7527BHCAM5UNA1CAQIT5FYCAZWGMIKCA0KV2OGCA4JRA7VCA017YQKCAKWRKOHCAZONXXXCAEXSMDKCAKSBH54CA5SX041CA1RXAMUCA0TIZY5CAZ8DFHO.jpg"/>
          <p:cNvPicPr/>
          <p:nvPr/>
        </p:nvPicPr>
        <p:blipFill>
          <a:blip r:embed="rId1"/>
          <a:stretch/>
        </p:blipFill>
        <p:spPr>
          <a:xfrm>
            <a:off x="3200400" y="2276640"/>
            <a:ext cx="1805040" cy="2439720"/>
          </a:xfrm>
          <a:prstGeom prst="rect">
            <a:avLst/>
          </a:prstGeom>
          <a:ln w="0">
            <a:noFill/>
          </a:ln>
        </p:spPr>
      </p:pic>
      <p:sp>
        <p:nvSpPr>
          <p:cNvPr id="279" name="TextBox 3"/>
          <p:cNvSpPr/>
          <p:nvPr/>
        </p:nvSpPr>
        <p:spPr>
          <a:xfrm>
            <a:off x="1828800" y="57150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name was Mi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Recorded Sound" descr=""/>
          <p:cNvPicPr/>
          <p:nvPr/>
        </p:nvPicPr>
        <p:blipFill>
          <a:blip r:embed="rId2"/>
          <a:stretch/>
        </p:blipFill>
        <p:spPr>
          <a:xfrm>
            <a:off x="-838080" y="4419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  <a:ea typeface="隶书"/>
              </a:rPr>
              <a:t>有一个小男孩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Content Placeholder 3" descr="YLV2CAW10Q9DCA6GYNGXCA0NKNSDCA4E7QXECAZRI23WCA48Y4IECA95IRT3CA2TTL9WCAVBBZUVCAV5WQH5CASQ0EXECAUSJA1RCAB5FZVGCAFEBTNPCAT3A7ASCA83WWUKCAHG2T4SCAD5E62RCAQE79MI.jpg"/>
          <p:cNvPicPr/>
          <p:nvPr/>
        </p:nvPicPr>
        <p:blipFill>
          <a:blip r:embed="rId1"/>
          <a:stretch/>
        </p:blipFill>
        <p:spPr>
          <a:xfrm>
            <a:off x="3657600" y="1828800"/>
            <a:ext cx="1447920" cy="2543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3805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TextBox 13"/>
          <p:cNvSpPr/>
          <p:nvPr/>
        </p:nvSpPr>
        <p:spPr>
          <a:xfrm>
            <a:off x="1600200" y="52578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as a little b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Recorded Sound" descr=""/>
          <p:cNvPicPr/>
          <p:nvPr/>
        </p:nvPicPr>
        <p:blipFill>
          <a:blip r:embed="rId2"/>
          <a:stretch/>
        </p:blipFill>
        <p:spPr>
          <a:xfrm>
            <a:off x="-304920" y="3962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  <a:ea typeface="隶书"/>
              </a:rPr>
              <a:t>一天，他们聚到一起把他吓走了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2" name="Content Placeholder 3" descr="X878CAZXDJR6CAR9RWBACAEM9VB3CA0TM0C7CAZWGVIMCAE3EP6WCAVA50ICCAPEL96YCAWEAOX0CARMGNWGCABGKI5RCAD873WTCA1XBK8ACAP2RUFDCAOGO2XNCAH2VLFACAO7RPN6CA0SI9CHCA11WPQX.jpg"/>
          <p:cNvPicPr/>
          <p:nvPr/>
        </p:nvPicPr>
        <p:blipFill>
          <a:blip r:embed="rId1"/>
          <a:stretch/>
        </p:blipFill>
        <p:spPr>
          <a:xfrm>
            <a:off x="2341440" y="2133720"/>
            <a:ext cx="2826000" cy="2192040"/>
          </a:xfrm>
          <a:prstGeom prst="rect">
            <a:avLst/>
          </a:prstGeom>
          <a:ln w="0">
            <a:noFill/>
          </a:ln>
        </p:spPr>
      </p:pic>
      <p:sp>
        <p:nvSpPr>
          <p:cNvPr id="283" name="TextBox 3"/>
          <p:cNvSpPr/>
          <p:nvPr/>
        </p:nvSpPr>
        <p:spPr>
          <a:xfrm>
            <a:off x="1219320" y="53341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day, they all got together and                               scared him 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Recorded Sound" descr=""/>
          <p:cNvPicPr/>
          <p:nvPr/>
        </p:nvPicPr>
        <p:blipFill>
          <a:blip r:embed="rId2"/>
          <a:stretch/>
        </p:blipFill>
        <p:spPr>
          <a:xfrm>
            <a:off x="-609480" y="4876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4000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  <a:ea typeface="隶书"/>
              </a:rPr>
              <a:t>他在也没回来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 never came ba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7" name="Picture 3" descr="M6RTCA4AVUCRCAG6T98VCAVW19KXCAUCNL85CAP4QDNECAMMPCSYCAWCMPQ9CAZRLUZDCAHXZ1NNCAGC0J3WCADEL51BCA4CMWKDCAJJO3ERCASUPF9MCAPYCSJQCA0VE1NLCAD3U22VCAT0TX9LCA1XJ80D.jpg"/>
          <p:cNvPicPr/>
          <p:nvPr/>
        </p:nvPicPr>
        <p:blipFill>
          <a:blip r:embed="rId1"/>
          <a:stretch/>
        </p:blipFill>
        <p:spPr>
          <a:xfrm>
            <a:off x="2743200" y="2286000"/>
            <a:ext cx="3200400" cy="3176640"/>
          </a:xfrm>
          <a:prstGeom prst="rect">
            <a:avLst/>
          </a:prstGeom>
          <a:ln w="0">
            <a:noFill/>
          </a:ln>
        </p:spPr>
      </p:pic>
      <p:pic>
        <p:nvPicPr>
          <p:cNvPr id="288" name="Recorded Sound" descr=""/>
          <p:cNvPicPr/>
          <p:nvPr/>
        </p:nvPicPr>
        <p:blipFill>
          <a:blip r:embed="rId2"/>
          <a:stretch/>
        </p:blipFill>
        <p:spPr>
          <a:xfrm>
            <a:off x="-685800" y="4800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他叫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pple Jack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Content Placeholder 3" descr="M2HCCAEK1O54CAOWGDU8CA312VPOCA28IT7UCAJW3T9OCAT1MVFCCAFF1HJLCAQRPI6YCA4UKJLFCARNV9U1CANUWVWXCAB5NVE2CAXC02U3CAAM02PYCAOC7SJKCARSCR25CATZ0QP0CAHR3KL5CAZIX6FM.jpg"/>
          <p:cNvPicPr/>
          <p:nvPr/>
        </p:nvPicPr>
        <p:blipFill>
          <a:blip r:embed="rId1"/>
          <a:stretch/>
        </p:blipFill>
        <p:spPr>
          <a:xfrm>
            <a:off x="3429000" y="2590920"/>
            <a:ext cx="2465280" cy="2178000"/>
          </a:xfrm>
          <a:prstGeom prst="rect">
            <a:avLst/>
          </a:prstGeom>
          <a:ln w="0">
            <a:noFill/>
          </a:ln>
        </p:spPr>
      </p:pic>
      <p:sp>
        <p:nvSpPr>
          <p:cNvPr id="206" name="TextBox 3"/>
          <p:cNvSpPr/>
          <p:nvPr/>
        </p:nvSpPr>
        <p:spPr>
          <a:xfrm>
            <a:off x="2286000" y="54864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name was Apple J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Recorded Sound" descr=""/>
          <p:cNvPicPr/>
          <p:nvPr/>
        </p:nvPicPr>
        <p:blipFill>
          <a:blip r:embed="rId2"/>
          <a:stretch/>
        </p:blipFill>
        <p:spPr>
          <a:xfrm>
            <a:off x="-30492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他没有妈妈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 didn’t have a m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images.jpg"/>
          <p:cNvPicPr/>
          <p:nvPr/>
        </p:nvPicPr>
        <p:blipFill>
          <a:blip r:embed="rId1"/>
          <a:stretch/>
        </p:blipFill>
        <p:spPr>
          <a:xfrm>
            <a:off x="3124080" y="1905120"/>
            <a:ext cx="2482920" cy="2114280"/>
          </a:xfrm>
          <a:prstGeom prst="rect">
            <a:avLst/>
          </a:prstGeom>
          <a:ln w="0">
            <a:noFill/>
          </a:ln>
        </p:spPr>
      </p:pic>
      <p:sp>
        <p:nvSpPr>
          <p:cNvPr id="211" name="Straight Connector 11"/>
          <p:cNvSpPr/>
          <p:nvPr/>
        </p:nvSpPr>
        <p:spPr>
          <a:xfrm>
            <a:off x="3124080" y="1981080"/>
            <a:ext cx="259092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3"/>
          <p:cNvSpPr/>
          <p:nvPr/>
        </p:nvSpPr>
        <p:spPr>
          <a:xfrm flipH="1">
            <a:off x="3200400" y="2057400"/>
            <a:ext cx="228600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Recorded Sound" descr=""/>
          <p:cNvPicPr/>
          <p:nvPr/>
        </p:nvPicPr>
        <p:blipFill>
          <a:blip r:embed="rId2"/>
          <a:stretch/>
        </p:blipFill>
        <p:spPr>
          <a:xfrm>
            <a:off x="-30492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他没有爸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 didn’t have a 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3" descr="VH1ACANBVS77CAM8TCRLCAMXNRCYCA6FIFSWCA4BTAW4CAB6ZZJNCAGQKYRXCAKO039NCATG2UUACAW06H0YCAUNPEUACAX600AOCAUT4ZWXCAG2KWTCCARDC1VUCAK4L7J5CAKNDR4DCASY7LBECALY61BM.jpg"/>
          <p:cNvPicPr/>
          <p:nvPr/>
        </p:nvPicPr>
        <p:blipFill>
          <a:blip r:embed="rId1"/>
          <a:stretch/>
        </p:blipFill>
        <p:spPr>
          <a:xfrm>
            <a:off x="3200400" y="2133720"/>
            <a:ext cx="2227320" cy="2133360"/>
          </a:xfrm>
          <a:prstGeom prst="rect">
            <a:avLst/>
          </a:prstGeom>
          <a:ln w="0">
            <a:noFill/>
          </a:ln>
        </p:spPr>
      </p:pic>
      <p:sp>
        <p:nvSpPr>
          <p:cNvPr id="217" name="Straight Connector 7"/>
          <p:cNvSpPr/>
          <p:nvPr/>
        </p:nvSpPr>
        <p:spPr>
          <a:xfrm>
            <a:off x="3353760" y="2287440"/>
            <a:ext cx="1827000" cy="1903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0"/>
          <p:cNvSpPr/>
          <p:nvPr/>
        </p:nvSpPr>
        <p:spPr>
          <a:xfrm flipH="1">
            <a:off x="3352320" y="2209680"/>
            <a:ext cx="175284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Recorded Sound" descr=""/>
          <p:cNvPicPr/>
          <p:nvPr/>
        </p:nvPicPr>
        <p:blipFill>
          <a:blip r:embed="rId2"/>
          <a:stretch/>
        </p:blipFill>
        <p:spPr>
          <a:xfrm>
            <a:off x="-533520" y="4114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他很寂寞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 was lone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3" descr="YGLPCA22O2RRCAIL8LA6CA1EONGGCASMQLWKCA7D08X0CAXFAJJICAO0LUCPCARO68TECAP2D0X3CANWH2PYCAMZ6HU7CAGZSORSCADRB6IZCAV5C1MHCAKHZ347CA4JANX0CAI6K773CAP94YH4CA0E5AGK.jpg"/>
          <p:cNvPicPr/>
          <p:nvPr/>
        </p:nvPicPr>
        <p:blipFill>
          <a:blip r:embed="rId1"/>
          <a:stretch/>
        </p:blipFill>
        <p:spPr>
          <a:xfrm>
            <a:off x="3429000" y="2133720"/>
            <a:ext cx="1976400" cy="1898640"/>
          </a:xfrm>
          <a:prstGeom prst="rect">
            <a:avLst/>
          </a:prstGeom>
          <a:ln w="0">
            <a:noFill/>
          </a:ln>
        </p:spPr>
      </p:pic>
      <p:pic>
        <p:nvPicPr>
          <p:cNvPr id="223" name="Recorded Sound" descr=""/>
          <p:cNvPicPr/>
          <p:nvPr/>
        </p:nvPicPr>
        <p:blipFill>
          <a:blip r:embed="rId2"/>
          <a:stretch/>
        </p:blipFill>
        <p:spPr>
          <a:xfrm>
            <a:off x="-304920" y="4267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  <a:ea typeface="隶书"/>
              </a:rPr>
              <a:t>他住在一个农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Content Placeholder 3" descr="IVAMCACJ1AA4CATC3YLLCAQ1LR3UCA76LSXHCAG169K6CAMHNOD5CAJXA5SICA5P5W4FCAAAMSZ7CA9I9WRPCAV8BUB1CA2K0L6VCAIOHHCICA28U0NACA5EK9K2CAC31AZNCAFFFBW1CA1Y64MACA63F43D.jpg"/>
          <p:cNvPicPr/>
          <p:nvPr/>
        </p:nvPicPr>
        <p:blipFill>
          <a:blip r:embed="rId1"/>
          <a:stretch/>
        </p:blipFill>
        <p:spPr>
          <a:xfrm>
            <a:off x="2836800" y="236232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3"/>
          <p:cNvSpPr/>
          <p:nvPr/>
        </p:nvSpPr>
        <p:spPr>
          <a:xfrm>
            <a:off x="1295280" y="54864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lived in a f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Recorded Sound" descr=""/>
          <p:cNvPicPr/>
          <p:nvPr/>
        </p:nvPicPr>
        <p:blipFill>
          <a:blip r:embed="rId2"/>
          <a:stretch/>
        </p:blipFill>
        <p:spPr>
          <a:xfrm>
            <a:off x="-304920" y="4267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农庄里有马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Content Placeholder 3" descr="64.jpg"/>
          <p:cNvPicPr/>
          <p:nvPr/>
        </p:nvPicPr>
        <p:blipFill>
          <a:blip r:embed="rId1"/>
          <a:stretch/>
        </p:blipFill>
        <p:spPr>
          <a:xfrm>
            <a:off x="3048120" y="2362320"/>
            <a:ext cx="2138400" cy="2049480"/>
          </a:xfrm>
          <a:prstGeom prst="rect">
            <a:avLst/>
          </a:prstGeom>
          <a:ln w="0">
            <a:noFill/>
          </a:ln>
        </p:spPr>
      </p:pic>
      <p:sp>
        <p:nvSpPr>
          <p:cNvPr id="230" name="TextBox 3"/>
          <p:cNvSpPr/>
          <p:nvPr/>
        </p:nvSpPr>
        <p:spPr>
          <a:xfrm>
            <a:off x="1981080" y="5334120"/>
            <a:ext cx="4724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arm there was a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Recorded Sound" descr=""/>
          <p:cNvPicPr/>
          <p:nvPr/>
        </p:nvPicPr>
        <p:blipFill>
          <a:blip r:embed="rId2"/>
          <a:stretch/>
        </p:blipFill>
        <p:spPr>
          <a:xfrm>
            <a:off x="-30492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000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马叫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ptain Crunc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3" name="Content Placeholder 3" descr="37.jpg"/>
          <p:cNvPicPr/>
          <p:nvPr/>
        </p:nvPicPr>
        <p:blipFill>
          <a:blip r:embed="rId1"/>
          <a:stretch/>
        </p:blipFill>
        <p:spPr>
          <a:xfrm>
            <a:off x="3505320" y="2057400"/>
            <a:ext cx="2033640" cy="20336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3"/>
          <p:cNvSpPr/>
          <p:nvPr/>
        </p:nvSpPr>
        <p:spPr>
          <a:xfrm>
            <a:off x="1143000" y="51055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rse’s name was Capitan Cr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Recorded Sound" descr=""/>
          <p:cNvPicPr/>
          <p:nvPr/>
        </p:nvPicPr>
        <p:blipFill>
          <a:blip r:embed="rId2"/>
          <a:stretch/>
        </p:blipFill>
        <p:spPr>
          <a:xfrm>
            <a:off x="-304920" y="441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000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0T14:10:54Z</dcterms:created>
  <dc:creator>itsuser</dc:creator>
  <dc:description/>
  <dc:language>en-US</dc:language>
  <cp:lastModifiedBy>itsuser</cp:lastModifiedBy>
  <dcterms:modified xsi:type="dcterms:W3CDTF">2009-04-16T16:21:40Z</dcterms:modified>
  <cp:revision>45</cp:revision>
  <dc:subject/>
  <dc:title>Slide 1</dc:title>
</cp:coreProperties>
</file>